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4656-FE59-4D6C-856D-54B39BBE2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5473-65DB-4476-A70F-6B095D7F7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693D-BEB9-4522-B8BF-236A73044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E0D0-386C-4C21-8D17-359CB4254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ABEF-174E-4F49-A92F-BEEEF01FB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F310-97EC-4BB8-B18D-D0C7AA143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8533-0BFE-4B0F-B4DD-6C59EB14B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BFD0-B6B3-4C56-A3E2-2CC985EBA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7D7D-FD4A-4016-B33D-F89C289F6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26FE-7C2F-47D7-851E-6A16991FE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A0AD-3E02-4791-87A3-AC34B35D8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65A4-2D2D-4BA0-A806-C4D44DF73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9776-C27A-4082-B27E-1C35BB150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28D7-AD3A-421A-8B88-12EB1B28B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BFC00-AE55-4B52-AA1D-0EA56A58C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38D5E-C138-432D-A0B2-B98AE0331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93FAB-545D-4441-92A0-BC71295AA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03244-5646-4749-B7BD-8A6120C04C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086CE-2635-4684-96EC-8B88F96DBC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8F91B-7682-4936-8310-FA4E25C6A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30E5E-4760-4C17-A3BD-763D51458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32249-5658-484B-BE2F-4563AB890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086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926E9-20FA-4518-8125-EB5B6F5CC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93C3F-890E-4BC5-82A3-CA6FC1F4C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429F7-F422-4A6A-88FC-FCA56771F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C3890-1241-4CB8-97EF-4A916A4B3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7696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E5A61958-1545-4B78-867F-32B304627B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380880" y="646200"/>
            <a:ext cx="609840" cy="503280"/>
          </a:xfrm>
          <a:prstGeom prst="rect">
            <a:avLst/>
          </a:prstGeom>
          <a:solidFill>
            <a:srgbClr val="ed6b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6.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F37F224D-DA2A-431B-BB4D-0A3147F9F2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2"/>
          <p:cNvSpPr/>
          <p:nvPr/>
        </p:nvSpPr>
        <p:spPr>
          <a:xfrm>
            <a:off x="4038480" y="3946680"/>
            <a:ext cx="49532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s j’ai téléphoné chez toi. Je suis tomb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 une fille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tait très genti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2" descr=""/>
          <p:cNvPicPr/>
          <p:nvPr/>
        </p:nvPicPr>
        <p:blipFill>
          <a:blip r:embed="rId1"/>
          <a:stretch/>
        </p:blipFill>
        <p:spPr>
          <a:xfrm>
            <a:off x="762120" y="2171880"/>
            <a:ext cx="32763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A3CA27F0-62AE-41AA-9F48-625F1FA1FB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qu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relative pronoun to represent the obje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preposition. Note that the preposition is retained and always precedes the relative pro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3191040"/>
          <a:ext cx="7010280" cy="1463400"/>
        </p:xfrm>
        <a:graphic>
          <a:graphicData uri="http://schemas.openxmlformats.org/drawingml/2006/table">
            <a:tbl>
              <a:tblPr/>
              <a:tblGrid>
                <a:gridCol w="7010280"/>
              </a:tblGrid>
              <a:tr h="1474920">
                <a:tc>
                  <a:txBody>
                    <a:bodyPr lIns="90000" rIns="900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’est le citron bio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c lequel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 vais faire la sauce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at’s the organic lemon with which I am going to prepare the sau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’est la raison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ur laquelle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 suis ven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s is why (the reason for which) I ca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360A7944-7A1D-4A3C-B482-EF81BADBD5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6"/>
          <p:cNvSpPr/>
          <p:nvPr/>
        </p:nvSpPr>
        <p:spPr>
          <a:xfrm>
            <a:off x="2514600" y="3662280"/>
            <a:ext cx="4114800" cy="1524240"/>
          </a:xfrm>
          <a:prstGeom prst="roundRect">
            <a:avLst>
              <a:gd name="adj" fmla="val 22347"/>
            </a:avLst>
          </a:prstGeom>
          <a:solidFill>
            <a:srgbClr val="fff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7"/>
          <p:cNvSpPr/>
          <p:nvPr/>
        </p:nvSpPr>
        <p:spPr>
          <a:xfrm>
            <a:off x="2514600" y="4643280"/>
            <a:ext cx="4114800" cy="1076400"/>
          </a:xfrm>
          <a:prstGeom prst="roundRect">
            <a:avLst>
              <a:gd name="adj" fmla="val 22347"/>
            </a:avLst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8"/>
          <p:cNvSpPr/>
          <p:nvPr/>
        </p:nvSpPr>
        <p:spPr>
          <a:xfrm>
            <a:off x="2514600" y="4195800"/>
            <a:ext cx="4114800" cy="762120"/>
          </a:xfrm>
          <a:prstGeom prst="rect">
            <a:avLst/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qu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ts form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qu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qu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quel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 in gender and number with the objects they represent. Remember, too, that w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qu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ntractions may be form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743200" y="3733920"/>
          <a:ext cx="4114800" cy="1981080"/>
        </p:xfrm>
        <a:graphic>
          <a:graphicData uri="http://schemas.openxmlformats.org/drawingml/2006/table">
            <a:tbl>
              <a:tblPr/>
              <a:tblGrid>
                <a:gridCol w="1800360"/>
                <a:gridCol w="257040"/>
                <a:gridCol w="2057400"/>
              </a:tblGrid>
              <a:tr h="45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</a:t>
                      </a:r>
                      <a:r>
                        <a:rPr b="1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</a:t>
                      </a:r>
                      <a:r>
                        <a:rPr b="1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que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xquel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xquell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114480" indent="17604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que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17604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quel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17604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quell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AC9A85B1-7D24-4A81-B773-DC85A25DED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qu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does not refer to people. If the object of the preposition is human, use 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ong with the prepo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3351240"/>
          <a:ext cx="7772400" cy="1206360"/>
        </p:xfrm>
        <a:graphic>
          <a:graphicData uri="http://schemas.openxmlformats.org/drawingml/2006/table">
            <a:tbl>
              <a:tblPr/>
              <a:tblGrid>
                <a:gridCol w="3429000"/>
                <a:gridCol w="716040"/>
                <a:gridCol w="3627360"/>
              </a:tblGrid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’est une relation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 laque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 peux compt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at’s a relationship I 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 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’est la femme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c qui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 très li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s is the woman with w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l is very close-kn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9F9C0271-95A2-4459-8A5F-745DB3FF38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relative pronoun refers to an unspecified antecedent, 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 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 qu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 do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often me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2514600"/>
          <a:ext cx="9220320" cy="3772080"/>
        </p:xfrm>
        <a:graphic>
          <a:graphicData uri="http://schemas.openxmlformats.org/drawingml/2006/table">
            <a:tbl>
              <a:tblPr/>
              <a:tblGrid>
                <a:gridCol w="4965840"/>
                <a:gridCol w="4254480"/>
              </a:tblGrid>
              <a:tr h="379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problèm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’inquiète, c’est le fossé des générations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problem that worries me is the generation gap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Bef>
                          <a:spcPts val="19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viand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préfère, c’est la volail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meat that I prefer is poultr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Bef>
                          <a:spcPts val="19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’ingrédien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e a besoin, c’est un conservateur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ingredients that she needs is a preservativ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286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 qui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’inquiète, c’est le fossé des générations.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worries me is the generation gap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Bef>
                          <a:spcPts val="19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 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préfère, c’est la volail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I prefer is poultr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Bef>
                          <a:spcPts val="19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 don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e a besoin, c’est un conservateur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she needs is a preservativ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F2EDB131-5458-4B89-9F83-A6D16C489B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pronouns are used to link two ideas containing a common element into a single, complex sentence, thereby eliminating the repetition of the common element. The relative pronoun to use is determined by the grammatical function of the noun it replaces,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tece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F60E6B5C-ED3F-449C-AB29-611A9BD03B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ntences below, the common element, or antecedent,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enf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Beca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enf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subject of the second sentence, 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s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04920" y="3657600"/>
          <a:ext cx="8458200" cy="2133720"/>
        </p:xfrm>
        <a:graphic>
          <a:graphicData uri="http://schemas.openxmlformats.org/drawingml/2006/table">
            <a:tbl>
              <a:tblPr/>
              <a:tblGrid>
                <a:gridCol w="2313000"/>
                <a:gridCol w="2563560"/>
                <a:gridCol w="358164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mère a grondé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’enfa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mother scolded the child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’enfan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tai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upportabl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child was unbearab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mère a grondé l’enfan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tai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upportab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mother scolded the child who was unbearab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" name="Picture 81" descr="p101"/>
          <p:cNvPicPr/>
          <p:nvPr/>
        </p:nvPicPr>
        <p:blipFill>
          <a:blip r:embed="rId1"/>
          <a:stretch/>
        </p:blipFill>
        <p:spPr>
          <a:xfrm>
            <a:off x="2209680" y="3683160"/>
            <a:ext cx="609840" cy="144756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35"/>
          <p:cNvGrpSpPr/>
          <p:nvPr/>
        </p:nvGrpSpPr>
        <p:grpSpPr>
          <a:xfrm>
            <a:off x="7848360" y="3428640"/>
            <a:ext cx="609480" cy="304920"/>
            <a:chOff x="7848360" y="3428640"/>
            <a:chExt cx="609480" cy="304920"/>
          </a:xfrm>
        </p:grpSpPr>
        <p:sp>
          <p:nvSpPr>
            <p:cNvPr id="64" name="Line 36"/>
            <p:cNvSpPr/>
            <p:nvPr/>
          </p:nvSpPr>
          <p:spPr>
            <a:xfrm flipV="1">
              <a:off x="8445240" y="3428640"/>
              <a:ext cx="126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7"/>
            <p:cNvSpPr/>
            <p:nvPr/>
          </p:nvSpPr>
          <p:spPr>
            <a:xfrm flipH="1">
              <a:off x="7848360" y="342900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8"/>
            <p:cNvSpPr/>
            <p:nvPr/>
          </p:nvSpPr>
          <p:spPr>
            <a:xfrm>
              <a:off x="7848720" y="342900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81" descr="p101"/>
          <p:cNvPicPr/>
          <p:nvPr/>
        </p:nvPicPr>
        <p:blipFill>
          <a:blip r:embed="rId2"/>
          <a:stretch/>
        </p:blipFill>
        <p:spPr>
          <a:xfrm>
            <a:off x="4495680" y="3657600"/>
            <a:ext cx="609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89602312-A9ED-42DF-8D3A-C187B086D9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s a direct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33520" y="2700360"/>
          <a:ext cx="8153280" cy="2108160"/>
        </p:xfrm>
        <a:graphic>
          <a:graphicData uri="http://schemas.openxmlformats.org/drawingml/2006/table">
            <a:tbl>
              <a:tblPr/>
              <a:tblGrid>
                <a:gridCol w="2133360"/>
                <a:gridCol w="2667240"/>
                <a:gridCol w="335268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saumon   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 excelle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salmon       is excelle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’ai trouvé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saumon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found the salmo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saumon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’ai trouv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 excelle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salmon that I foun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excelle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Picture 81" descr="p101"/>
          <p:cNvPicPr/>
          <p:nvPr/>
        </p:nvPicPr>
        <p:blipFill>
          <a:blip r:embed="rId1"/>
          <a:stretch/>
        </p:blipFill>
        <p:spPr>
          <a:xfrm>
            <a:off x="2133720" y="2725560"/>
            <a:ext cx="609480" cy="1447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1" descr="p101"/>
          <p:cNvPicPr/>
          <p:nvPr/>
        </p:nvPicPr>
        <p:blipFill>
          <a:blip r:embed="rId2"/>
          <a:stretch/>
        </p:blipFill>
        <p:spPr>
          <a:xfrm>
            <a:off x="4876920" y="2700360"/>
            <a:ext cx="609480" cy="14479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6"/>
          <p:cNvGrpSpPr/>
          <p:nvPr/>
        </p:nvGrpSpPr>
        <p:grpSpPr>
          <a:xfrm>
            <a:off x="6157440" y="2514240"/>
            <a:ext cx="852480" cy="304920"/>
            <a:chOff x="6157440" y="2514240"/>
            <a:chExt cx="852480" cy="304920"/>
          </a:xfrm>
        </p:grpSpPr>
        <p:sp>
          <p:nvSpPr>
            <p:cNvPr id="76" name="Line 8"/>
            <p:cNvSpPr/>
            <p:nvPr/>
          </p:nvSpPr>
          <p:spPr>
            <a:xfrm flipV="1">
              <a:off x="6991920" y="2514240"/>
              <a:ext cx="180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9"/>
            <p:cNvSpPr/>
            <p:nvPr/>
          </p:nvSpPr>
          <p:spPr>
            <a:xfrm flipH="1">
              <a:off x="6157440" y="2514600"/>
              <a:ext cx="85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0"/>
            <p:cNvSpPr/>
            <p:nvPr/>
          </p:nvSpPr>
          <p:spPr>
            <a:xfrm>
              <a:off x="6157800" y="251460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E8BDDE6E-70C8-4FCA-B4BA-47FAF16597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23960" y="1571760"/>
          <a:ext cx="7696080" cy="255096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1796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213300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English, relative pronouns can sometimes be omitted. Relative pronouns cannot be omitted in French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parent que j’ai perdu récemment était mon arrière-grand-père.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relative (whom) I lost is was my great-grand-father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9FB7B913-AF9D-44E2-8DE5-E0AE2B9453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st participle that follows 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s in gender and number with its antece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609480" y="2695680"/>
            <a:ext cx="457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La tarte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qu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u as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fait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était délicieu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 pie that you made was deliciou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DA64B905-4CB3-4FC5-9253-9EEC04DF64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stand for a place or a tim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it can me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520" y="2768760"/>
          <a:ext cx="8076960" cy="2514600"/>
        </p:xfrm>
        <a:graphic>
          <a:graphicData uri="http://schemas.openxmlformats.org/drawingml/2006/table">
            <a:tbl>
              <a:tblPr/>
              <a:tblGrid>
                <a:gridCol w="8076960"/>
              </a:tblGrid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’est un supérett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ù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peut trouver des produits biologique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’s a min-market where you can find organic food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2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éléphone-moi au momen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ù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re nièce arriv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 me the moment that (when) our niece arrive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3" name="Group 23"/>
          <p:cNvGrpSpPr/>
          <p:nvPr/>
        </p:nvGrpSpPr>
        <p:grpSpPr>
          <a:xfrm>
            <a:off x="1980720" y="2514240"/>
            <a:ext cx="914040" cy="304920"/>
            <a:chOff x="1980720" y="2514240"/>
            <a:chExt cx="914040" cy="304920"/>
          </a:xfrm>
        </p:grpSpPr>
        <p:sp>
          <p:nvSpPr>
            <p:cNvPr id="94" name="Line 24"/>
            <p:cNvSpPr/>
            <p:nvPr/>
          </p:nvSpPr>
          <p:spPr>
            <a:xfrm flipV="1">
              <a:off x="2875680" y="2514240"/>
              <a:ext cx="1908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H="1">
              <a:off x="1980720" y="251460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1981080" y="251460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"/>
          <p:cNvGrpSpPr/>
          <p:nvPr/>
        </p:nvGrpSpPr>
        <p:grpSpPr>
          <a:xfrm>
            <a:off x="3200040" y="3733560"/>
            <a:ext cx="609480" cy="304920"/>
            <a:chOff x="3200040" y="3733560"/>
            <a:chExt cx="609480" cy="304920"/>
          </a:xfrm>
        </p:grpSpPr>
        <p:sp>
          <p:nvSpPr>
            <p:cNvPr id="98" name="Line 5"/>
            <p:cNvSpPr/>
            <p:nvPr/>
          </p:nvSpPr>
          <p:spPr>
            <a:xfrm flipV="1">
              <a:off x="3796920" y="3733560"/>
              <a:ext cx="126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6"/>
            <p:cNvSpPr/>
            <p:nvPr/>
          </p:nvSpPr>
          <p:spPr>
            <a:xfrm flipH="1">
              <a:off x="3200040" y="37339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7"/>
            <p:cNvSpPr/>
            <p:nvPr/>
          </p:nvSpPr>
          <p:spPr>
            <a:xfrm>
              <a:off x="3200400" y="373392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578AC1B1-AC7D-470E-A3B5-36341BBB40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s an object of the preposi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320" y="2921040"/>
          <a:ext cx="8991360" cy="2108160"/>
        </p:xfrm>
        <a:graphic>
          <a:graphicData uri="http://schemas.openxmlformats.org/drawingml/2006/table">
            <a:tbl>
              <a:tblPr/>
              <a:tblGrid>
                <a:gridCol w="2144520"/>
                <a:gridCol w="2884680"/>
                <a:gridCol w="396216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est allés à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’hypermarché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went to the supermarke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t’ai parlé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l’hypermarché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talked to you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 the supermarke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est allés à l’hypermarché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t’ai parlé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went to the supermarket (that)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talked to you abou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Picture 81" descr="p101"/>
          <p:cNvPicPr/>
          <p:nvPr/>
        </p:nvPicPr>
        <p:blipFill>
          <a:blip r:embed="rId1"/>
          <a:stretch/>
        </p:blipFill>
        <p:spPr>
          <a:xfrm>
            <a:off x="4648320" y="2921040"/>
            <a:ext cx="609480" cy="1447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1" descr="p101"/>
          <p:cNvPicPr/>
          <p:nvPr/>
        </p:nvPicPr>
        <p:blipFill>
          <a:blip r:embed="rId2"/>
          <a:stretch/>
        </p:blipFill>
        <p:spPr>
          <a:xfrm>
            <a:off x="1752480" y="2946240"/>
            <a:ext cx="60984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7"/>
          <p:cNvGrpSpPr/>
          <p:nvPr/>
        </p:nvGrpSpPr>
        <p:grpSpPr>
          <a:xfrm>
            <a:off x="7756560" y="2666520"/>
            <a:ext cx="761760" cy="304920"/>
            <a:chOff x="7756560" y="2666520"/>
            <a:chExt cx="761760" cy="304920"/>
          </a:xfrm>
        </p:grpSpPr>
        <p:sp>
          <p:nvSpPr>
            <p:cNvPr id="109" name="Line 8"/>
            <p:cNvSpPr/>
            <p:nvPr/>
          </p:nvSpPr>
          <p:spPr>
            <a:xfrm flipV="1">
              <a:off x="8502120" y="2666520"/>
              <a:ext cx="1584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9"/>
            <p:cNvSpPr/>
            <p:nvPr/>
          </p:nvSpPr>
          <p:spPr>
            <a:xfrm flipH="1">
              <a:off x="7756560" y="266688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0"/>
            <p:cNvSpPr/>
            <p:nvPr/>
          </p:nvSpPr>
          <p:spPr>
            <a:xfrm>
              <a:off x="7756560" y="266688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B989F1DB-6201-4217-89E7-60544F8199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 preposi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indicate possession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me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3520" y="2616120"/>
          <a:ext cx="7086600" cy="2793960"/>
        </p:xfrm>
        <a:graphic>
          <a:graphicData uri="http://schemas.openxmlformats.org/drawingml/2006/table">
            <a:tbl>
              <a:tblPr/>
              <a:tblGrid>
                <a:gridCol w="7086600"/>
              </a:tblGrid>
              <a:tr h="279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enfant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t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le père est autoritaire sont souvent puni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children, whose father is strict, are often punished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© and ® 2011 Vista Higher Learning, Inc.</dc:creator>
  <dc:description/>
  <dc:language>en-US</dc:language>
  <cp:lastModifiedBy>Ursuline Academy</cp:lastModifiedBy>
  <dcterms:modified xsi:type="dcterms:W3CDTF">2015-02-13T14:45:52Z</dcterms:modified>
  <cp:revision>171</cp:revision>
  <dc:subject>D'accord! 3 • D'accord! 3 • Leçon 6: Les générations qui bougent</dc:subject>
  <dc:title>6.2 Demonstrative pronouns</dc:title>
</cp:coreProperties>
</file>